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71262"/>
        <c:axId val="16818614"/>
      </c:barChart>
      <c:catAx>
        <c:axId val="19571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18614"/>
        <c:crosses val="autoZero"/>
        <c:auto val="1"/>
        <c:lblAlgn val="ctr"/>
        <c:lblOffset val="100"/>
        <c:noMultiLvlLbl val="0"/>
      </c:catAx>
      <c:valAx>
        <c:axId val="16818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71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A98-70F6-4B4B-9723-EA8558D2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538-C69C-43B8-9860-F081FB14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FE5-DA23-45C6-ACDE-0360CBF4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FA8-9838-450E-B892-ABAD5642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6D0-4559-48D9-BC34-0BDBA2BF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67A-8A6C-4EA7-9D92-C5AD3B1F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500-7980-44A7-B6A1-25930427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F6A-60B4-4416-8D2C-4AF7A362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8B6-93E5-45F2-9D8B-825B3742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75F-DA98-4B13-833C-003B4F52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1F9-1A95-4566-AD2F-52B0374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CF9-25ED-47EA-839B-0E4261A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9AACD-A0F2-4AD1-A046-4B6A3DE119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