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79797"/>
        <c:axId val="94862752"/>
      </c:barChart>
      <c:catAx>
        <c:axId val="80179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62752"/>
        <c:crosses val="autoZero"/>
        <c:auto val="1"/>
        <c:lblAlgn val="ctr"/>
        <c:lblOffset val="100"/>
        <c:noMultiLvlLbl val="0"/>
      </c:catAx>
      <c:valAx>
        <c:axId val="94862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79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088-4C04-437F-8C64-ACEDAD43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F57-9C49-4428-9860-AC604062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EBB-5646-426B-B4B5-6053ABC2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ADD-03E4-4972-9188-D536A03B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479-DB84-49F7-B7F8-A0222140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49F-0549-4963-A521-9D179AC2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651-3E4A-4CAA-AD2A-8C4780EC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5D1-C960-42E5-8406-F65789AD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B9F-88ED-403E-A9BF-5C570078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BE0-1B92-4489-A66E-58CB2A45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46C-5A1E-4B3D-8B27-1480C2A1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E4F-8C25-4F4B-911E-C0D4481F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C0396-7F40-4D43-91C3-26107ADA50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