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056017"/>
        <c:axId val="33074584"/>
      </c:barChart>
      <c:catAx>
        <c:axId val="23056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074584"/>
        <c:crosses val="autoZero"/>
        <c:auto val="1"/>
        <c:lblAlgn val="ctr"/>
        <c:lblOffset val="100"/>
        <c:noMultiLvlLbl val="0"/>
      </c:catAx>
      <c:valAx>
        <c:axId val="33074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056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8BA-588D-43EB-964C-E91DA318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D6D-B5C7-4A70-981E-2DE84864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50E1-3DC9-40F6-BDE7-F5E5A6EC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2F33-7347-4C8B-B53D-38B10F85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4649-43CB-4AF1-9010-8F92F4420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D92C-D5FE-4BDC-889B-959778F22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BCA3-26DE-4221-8F2B-FA9CB79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E83A-2119-4A2E-90F4-6F655AE75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EAE-93BB-4201-B328-00827EE5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149-E599-4C9D-82EB-4FB5F78E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DB1-0260-4505-8F23-61DEF7E3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FD1E-4096-41AF-A60B-E031AA248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7997-DC59-4F0E-B59B-4141BD3928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