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75108"/>
        <c:axId val="12566488"/>
      </c:barChart>
      <c:catAx>
        <c:axId val="39675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66488"/>
        <c:crosses val="autoZero"/>
        <c:auto val="1"/>
        <c:lblAlgn val="ctr"/>
        <c:lblOffset val="100"/>
        <c:noMultiLvlLbl val="0"/>
      </c:catAx>
      <c:valAx>
        <c:axId val="12566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75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7F2-7F25-4D52-81A1-D1C437D7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59A-2077-4EAF-93D7-A069A350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14D-0729-42F3-AC92-91D3DBF0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8EC-9CF2-4C1B-BA4B-CF4166C2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CE2-BDD8-4349-B562-C0FEDB4D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445-891C-4B69-A265-665A574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5AE-1665-4B3C-AEA4-BB70D47C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1D3-3092-488D-80A6-0C928959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2B0-B177-4F27-A484-C03E978B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36A-6A25-444F-99FC-2B7FA73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696-10F4-44A9-B1F4-C2807DA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6B8-8727-4E10-8D97-6CB60291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980D2-D416-4FEE-8521-B07E7E3A68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