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842447"/>
        <c:axId val="49293603"/>
      </c:barChart>
      <c:catAx>
        <c:axId val="708424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93603"/>
        <c:crosses val="autoZero"/>
        <c:auto val="1"/>
        <c:lblAlgn val="ctr"/>
        <c:lblOffset val="100"/>
        <c:noMultiLvlLbl val="0"/>
      </c:catAx>
      <c:valAx>
        <c:axId val="49293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424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6939-79D6-4823-9654-CC3EA306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5C92-721B-41D4-BC5D-70C96CF4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BB32-46DA-42A5-A5E1-F32B0A8E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591-3559-45A3-9B4E-07B743DF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E291-EE95-4B7C-AAA8-06995FE2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6C1D-F2C3-47F2-B178-033E3845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3749-DFFA-4B43-879F-388B3517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6236-FF42-41F4-AEF7-390F7723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787-AE6D-4EA6-A8DE-4943AC01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BA76-B1C0-4671-B160-70D92CF6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B290-D699-4BA6-B3F2-57D410C8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44B1-E6FE-4EDB-80FE-90CBE30B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940D7-F72B-429B-8E9F-DCD9E9A60E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