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88743"/>
        <c:axId val="72711545"/>
      </c:barChart>
      <c:catAx>
        <c:axId val="94288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11545"/>
        <c:crosses val="autoZero"/>
        <c:auto val="1"/>
        <c:lblAlgn val="ctr"/>
        <c:lblOffset val="100"/>
        <c:noMultiLvlLbl val="0"/>
      </c:catAx>
      <c:valAx>
        <c:axId val="72711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88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26C-1B6C-47A5-9311-E206F2BB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364-34D2-4513-AD3D-1A64854C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485-719A-46FA-B541-516FA7EF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DC4-DA6B-4C82-919C-17F6A7F6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D94-2FCF-499D-9276-90B04920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4D7-4A1B-4168-A1BB-D6C11916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7DE-0587-490C-A9F0-D9A2D9EF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20C-FBD4-44C0-9BA8-34A23664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0FD-6105-4B23-A456-ED3BECC9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4A4-3AD3-4D35-AB9E-75270C00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509-AF2D-4A64-BCDF-D3CBEF0B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6F6-0120-48E9-97A0-1C3B911E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60C8B-0AC5-4A02-AC44-E0FC772882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