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8238652"/>
        <c:axId val="82952166"/>
      </c:barChart>
      <c:catAx>
        <c:axId val="2823865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952166"/>
        <c:crosses val="autoZero"/>
        <c:auto val="1"/>
        <c:lblAlgn val="ctr"/>
        <c:lblOffset val="100"/>
        <c:noMultiLvlLbl val="0"/>
      </c:catAx>
      <c:valAx>
        <c:axId val="8295216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23865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3C7B-0EBB-4FA9-B42A-E7A1A023F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DE4D-DD0D-4371-B6AA-1B4AA5952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86DA-97AC-479E-87EA-EAA4F4DC2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1E23-5090-433C-9A5E-EF9F638DE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33C8-1A0C-40E5-9DA1-DB8F50911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3E49-A36D-4DC3-8E93-30628C4A9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0D82-6FFF-40B7-A23E-523D202C2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2768-A14E-434E-A27B-654B9EB7D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3C64-F286-4FC0-B618-1ED60A24E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CA87-6C18-4DDE-AFDD-4632BF6FC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6AFF-25B9-47E7-A1A1-7B3D13521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63E7-D8CC-4E3D-9081-4A5AA5DB5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9499BA-F617-44F5-91CB-A837F2B3934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