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71814"/>
        <c:axId val="77216592"/>
      </c:barChart>
      <c:catAx>
        <c:axId val="60671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16592"/>
        <c:crosses val="autoZero"/>
        <c:auto val="1"/>
        <c:lblAlgn val="ctr"/>
        <c:lblOffset val="100"/>
        <c:noMultiLvlLbl val="0"/>
      </c:catAx>
      <c:valAx>
        <c:axId val="77216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1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AB6-652D-469D-83F9-8D4055BC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1A2-C077-4934-918F-6CB6DB56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E95-CA9E-4C57-8260-B210D07D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50B-65BB-4DEA-8C56-2EC45580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283-2F4B-4EDB-840D-F3D7E6B3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ECA-C342-4163-BD51-803AAE56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185-90D4-4369-A610-BFAC20E1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479-87AC-4F14-BEC3-1143FE61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3E0-6D1C-4CF8-8BD1-EF0F6B06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9D1-1BB4-46B5-9ACD-7020869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921-CDAB-4E1C-AB89-F7FEA21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E7F-96B8-42D9-91D4-304B5C1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A3325-F593-4CD2-8A38-63BF45801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