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58076"/>
        <c:axId val="58560393"/>
      </c:barChart>
      <c:catAx>
        <c:axId val="75758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0393"/>
        <c:crosses val="autoZero"/>
        <c:auto val="1"/>
        <c:lblAlgn val="ctr"/>
        <c:lblOffset val="100"/>
        <c:noMultiLvlLbl val="0"/>
      </c:catAx>
      <c:valAx>
        <c:axId val="58560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58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DD0-0A0E-4D4B-903B-E99976DE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638-CEA5-436B-AFE2-24BAA05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CF6-5EC5-41CF-A07E-842C06B0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8F6-7F38-4D96-B271-E3AFB633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55D-1B05-4656-BD62-7BF23E45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BE3-56E1-465B-BA2E-8FAA766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430-5D60-42C9-A25F-CDC50E1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46C-97AD-4779-B10A-204BBA3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12D-EBE8-43B8-9770-D76E9D9F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C4F-9F13-4A6E-8328-64E52B6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04E-29FC-4539-84C9-E9100B6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968-9DAF-4022-972D-861BBE3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48791-6C37-48E4-B918-934B77A5D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