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65609"/>
        <c:axId val="33552061"/>
      </c:barChart>
      <c:catAx>
        <c:axId val="36965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52061"/>
        <c:crosses val="autoZero"/>
        <c:auto val="1"/>
        <c:lblAlgn val="ctr"/>
        <c:lblOffset val="100"/>
        <c:noMultiLvlLbl val="0"/>
      </c:catAx>
      <c:valAx>
        <c:axId val="33552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65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085-B099-456A-9439-06C8028E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32E-47FA-44E1-8A18-DC46D7D0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9D4-5E53-4630-A84E-C5348427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0D6-1E3F-4F01-BC2F-68A92DE9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45A-1699-49C2-87B8-5DBB11BB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B2C-5C0D-4F3E-8CE5-EB529602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402-ABD2-4646-B00D-E865FD31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FFC-2386-45EB-8620-2462984F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FEA-152E-4099-BBB4-0EB2017A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82D-9F19-460C-8DB9-77B12AFE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3AC-1CAC-4B79-AF39-D56AB2B8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9FB-529E-4A6E-BBA7-CE3B1CC4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B78CC-1BB4-48FA-92A7-7311B53AFF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