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72517"/>
        <c:axId val="56307428"/>
      </c:barChart>
      <c:catAx>
        <c:axId val="72272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7428"/>
        <c:crosses val="autoZero"/>
        <c:auto val="1"/>
        <c:lblAlgn val="ctr"/>
        <c:lblOffset val="100"/>
        <c:noMultiLvlLbl val="0"/>
      </c:catAx>
      <c:valAx>
        <c:axId val="56307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72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B64-EFF9-4908-89B5-585419B1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A2D-1148-4A08-BC96-FD47F13D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25A-5D5A-4A52-A98D-99342970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D72-C7C9-46FF-AEFC-E3677F35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2A9-18DB-4CD4-957C-1A9133B8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51D-80E0-44C7-A815-1FDEEC80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BFE-0B41-447E-814E-8DDE45A0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498-A6C8-41F3-819E-669F1F7F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B97-98FF-4DD2-A7E8-588ADB1D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47F-8B61-4514-9573-258AAAA5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5DE-2CA5-4E41-A1BC-12C0881B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D1E-08F8-4F9F-9DDB-E2EC6A1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18752-E632-440D-BD59-6ACA866E2E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