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245969"/>
        <c:axId val="50035293"/>
      </c:barChart>
      <c:catAx>
        <c:axId val="22245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35293"/>
        <c:crosses val="autoZero"/>
        <c:auto val="1"/>
        <c:lblAlgn val="ctr"/>
        <c:lblOffset val="100"/>
        <c:noMultiLvlLbl val="0"/>
      </c:catAx>
      <c:valAx>
        <c:axId val="50035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45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87F-2E18-4EE7-A3FC-332C2BF1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A48-D34E-4166-9FF5-697225B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A03-5B07-4A91-A545-B11E3CA9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309-8A48-4EB1-9FEB-E727E07A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9BA-3A6C-4ED2-8DDE-5D886ABD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EE2-219B-4B7C-8BD3-904835AC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BFE-B3C5-44D9-AF18-12E4E60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2EA-40E1-4891-9071-856CAE3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B60-6B69-4DA0-86EC-F45A4DB0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7D7-9E94-4B45-AE04-8804C055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780-BF5E-41DF-A76F-8CE1BF5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9B1-1A9E-42ED-B7BC-4DCC6D45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A959F-927E-4317-9CFB-F9BEA164C7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