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677526"/>
        <c:axId val="13339540"/>
      </c:barChart>
      <c:catAx>
        <c:axId val="186775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39540"/>
        <c:crosses val="autoZero"/>
        <c:auto val="1"/>
        <c:lblAlgn val="ctr"/>
        <c:lblOffset val="100"/>
        <c:noMultiLvlLbl val="0"/>
      </c:catAx>
      <c:valAx>
        <c:axId val="133395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775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2C94-BCCD-4DD4-8B64-685329CE1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A43B-006D-4DA6-86F8-C2AF3F0F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1ED6-4962-4CF3-96D2-0405D542C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E49A-2501-4F19-A6FD-0F7F8E57F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5B6C-3022-48AE-B753-D287BC61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5EF2-5290-4F9F-959A-ACEFDBE4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1D5A-938B-47A7-9E1D-029F3A79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11F9-238E-41B4-8A2A-40904679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D81A-D16C-4949-ADE1-C1F4414D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2CB7-EFFF-449E-AC6F-63DF435F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69C2-BDD4-4766-92C1-8B175AAB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25D7-5577-4AED-AA88-C48CEAA2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03D5C-2181-412D-BC9B-311AF1113A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