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234882"/>
        <c:axId val="97234360"/>
      </c:barChart>
      <c:catAx>
        <c:axId val="50234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34360"/>
        <c:crosses val="autoZero"/>
        <c:auto val="1"/>
        <c:lblAlgn val="ctr"/>
        <c:lblOffset val="100"/>
        <c:noMultiLvlLbl val="0"/>
      </c:catAx>
      <c:valAx>
        <c:axId val="97234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34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962-40F6-470F-9CEF-7EAD279E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4C5E-AFAB-4D06-B198-A0800F47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824-5DD4-4A91-9627-EEF871C1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2F1-89E2-4092-9E62-ED9380E6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BC0-FC87-4940-875B-B928D63E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669-541A-49B8-AEB2-C30DEE14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8CB-21E0-409A-ABF2-805D380B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ECF-CEDA-4073-B4B0-732EC2EB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B72-A883-4C7D-9CC1-30A8A061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77A-FDF3-4127-BF1D-17475A95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507-7D2E-4440-8A16-47A60310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959-FF5F-41CD-96C5-8CC10C4D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F12B2-CD52-4D99-9785-C0EA856E3F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