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81753"/>
        <c:axId val="12767326"/>
      </c:barChart>
      <c:catAx>
        <c:axId val="72881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67326"/>
        <c:crosses val="autoZero"/>
        <c:auto val="1"/>
        <c:lblAlgn val="ctr"/>
        <c:lblOffset val="100"/>
        <c:noMultiLvlLbl val="0"/>
      </c:catAx>
      <c:valAx>
        <c:axId val="127673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81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0C9-8D24-406A-985F-E66464C7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F937-BB5C-470A-A5E7-D6A63925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4905-BBD2-4A4E-B759-030CFFD8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08C-53E3-453E-B943-D5C52B37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AA5-1487-4B10-9664-EBFDBEAF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364-1246-4A07-A252-451EB211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3B3E-080F-459E-B79B-4AA3A777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48E7-96EC-4175-B4B5-7AD02EA5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D0D4-F5A2-4D7F-ADC0-4674D360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C9B-75DC-4C0F-8B2D-FD5C6517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AD08-0BD3-4760-8A0E-3F2FE020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B27-CCD7-490E-B44A-941DCADB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3066D-460F-4822-911E-572AA2D17D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