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45455"/>
        <c:axId val="41360591"/>
      </c:barChart>
      <c:catAx>
        <c:axId val="11445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60591"/>
        <c:crosses val="autoZero"/>
        <c:auto val="1"/>
        <c:lblAlgn val="ctr"/>
        <c:lblOffset val="100"/>
        <c:noMultiLvlLbl val="0"/>
      </c:catAx>
      <c:valAx>
        <c:axId val="41360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45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E35-C360-42DC-AC96-74E4C01B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F7D-3E60-4988-BD00-75B0B18E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883-5E6D-4155-9093-8FBEF5DB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415-A3D4-4963-BA19-59D66ED6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FED-0612-47FD-9971-F61AA550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C22-F9C2-4707-8A2C-D3B3A90E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201-3960-4436-826C-C3365D9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F4F-0691-4291-9587-FC8DCECD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B39-FD6E-4137-B509-6178577E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DF8-751D-4F0C-A3C4-AB706E7A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7DF-CFB1-4B3E-89AA-C1FD3E0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F36-9471-4CFF-A08A-A4A7281D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1B243-4760-4292-A8C2-FA71C27B8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