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69173"/>
        <c:axId val="97960874"/>
      </c:barChart>
      <c:catAx>
        <c:axId val="35691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960874"/>
        <c:crosses val="autoZero"/>
        <c:auto val="1"/>
        <c:lblAlgn val="ctr"/>
        <c:lblOffset val="100"/>
        <c:noMultiLvlLbl val="0"/>
      </c:catAx>
      <c:valAx>
        <c:axId val="979608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691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D7DB-ACFA-4ABF-99E8-862028AF3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D18D-927F-4850-BBB9-5E26C3AF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D616-7FBE-46C7-8F1C-F13A8BDAD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8F8D-042D-4F48-BA0D-1B20F95F6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A634-0198-4F46-8A1E-DBAF7346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8E75-9768-4B54-946A-7CFF3CB6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EED8-C1AE-4617-BF8E-0EE5899F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2EFC-628C-4948-8022-9806C3A5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14B0-1A59-42B7-A844-01A8D065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EBF8-4A8E-43C2-BD7A-330B494F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7E88-B18A-4EA5-AEED-0D7AFD44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6873-A234-43A2-B8DC-CFC09B72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2D5BF-576E-402B-B6FE-0B0E27C7E3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